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4FE-9B33-4B98-A9A9-03829F50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DF2-9C58-4766-8BF2-DE65952D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47C-0D2C-452F-AE84-A9165896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D47-812B-4C3A-9C15-CA08B94B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062-0F28-4FA5-8AD8-F0B8BF1A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662-EE54-4933-9600-DD539B8B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CEC-3EED-4A0A-87CC-3A64B8BB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A3E-2700-4387-80E5-A63203D9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57D-C014-4BB5-90BC-94F332D6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441-8BAF-470F-BEC6-F6D3527C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E62-76C1-4BA3-9DAD-BA92DEB8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ECA5-3E94-4955-915A-DC5BED06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6F24-744E-4A0C-8769-2C4DE32771D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84320" y="1471680"/>
            <a:ext cx="8708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69720" y="5805360"/>
            <a:ext cx="8569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هداية بي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خطاب : للنبي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713556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368360" y="2492280"/>
            <a:ext cx="7524720" cy="10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1359000" y="4149720"/>
            <a:ext cx="7534080" cy="170496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357336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حريم لعن المؤ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163980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د من رح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374"/>
          <a:stretch/>
        </p:blipFill>
        <p:spPr>
          <a:xfrm>
            <a:off x="476280" y="2349360"/>
            <a:ext cx="8191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7040" y="4976640"/>
            <a:ext cx="3505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صفات السعداء ذكر هنا صفات الأشقي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364000" y="912960"/>
            <a:ext cx="3569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429400" cy="31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-15840" y="911160"/>
            <a:ext cx="9139320" cy="862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72880" y="468792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جع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057480" y="1190520"/>
            <a:ext cx="417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أشقيا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كفر سبب الطرد من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حمة الله والهلاك في جهن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عز وجل هو المعطي المانع يعطي ويمن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يعطي الدني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حب ومن لا يح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بسط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ر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بض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ا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ى المؤمن تجاه ما أُعطي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ضى والتسليم والقناع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هداية والضلال بيد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508464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دم جواز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هذا من جنس حجة الكفار وهي حجة داحضة لا تف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نقضون 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قطع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فسدون في الأر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رح بالحياة الدنيا عن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ؤمنون بما جاء به الرسل من عن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4070520" y="942840"/>
            <a:ext cx="4749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6T18:13:23Z</dcterms:modified>
  <cp:revision>2087</cp:revision>
  <dc:subject/>
  <dc:title>عرض تقديمي في PowerPoint</dc:title>
</cp:coreProperties>
</file>